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A56F028-A576-4932-9AA9-71AE9C5CCB8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E6A6CE4A-4FDC-4C7A-BC44-204A5B1D720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58B671CF-C390-48F2-ACE6-34271FDB87A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B5382403-EFB9-4751-ABA0-04F52BD6846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F6A398FB-430E-4664-9645-1483041047E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6382FB-D0CA-4669-9114-9BB3AE6AB70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4C0154C1-5797-4C8D-8969-49941C9E749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FBAFD5B8-2BFF-4F93-A5F6-22C7E8D4A1D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6174C844-29D1-4CDC-B058-6CBA8A04591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CD27E6B-F4D6-4990-A16F-963C66F9BB6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070D875-94A2-4324-B485-9632B746DAB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1532EC8-DA3E-4271-B1B8-DA3499302E9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A4F3D2-ED54-41A0-8517-4A05A9C6C12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44DAED8-8C35-47D6-BCF5-67AC977AC2F1}"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A8F9FC8-DBA7-4F12-B7EA-98573BA98B2F}"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15AAFB4-65D4-4D04-8391-6DBD2E60253A}"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B4634BE-88C2-44DD-9F1E-7FB299D4FA30}"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7973B1-E599-4E06-B996-A13F26A4221D}"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393788-46E6-470E-A5BD-1550E5E58F31}"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F2888E-EB38-4401-8DE9-703FD71079D1}"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7CA6FC-51E8-407B-99CC-639A364FC15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132046-255F-44F1-918E-BF69D237ABD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2DC589E-4700-425E-BB95-4465C5DB5AD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6FDD98-14FA-423D-A61A-8E8D6C0EA32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03FF3FE-104F-4EFE-A852-4F2F131E26F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3A36B81-4A89-4979-B768-969DE9A5197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A7C4989B-0809-4C06-A1DD-35B6BA922D8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178328-EBB9-4FDF-8833-4029677E3F5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B0F7EA-4701-4F6F-ABD1-FCB83D648E8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217367C-CAC6-409C-920B-DADE493F21C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68015E-4DDB-42B0-9CE8-5866CBE68C4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F35141-52E8-4F6C-B633-3B15E7A568C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12B680-82F3-471C-8FBC-88AE992EB94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CA138FA-385C-44FF-AB28-B799C059047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3FB25C-A8B9-4139-9E91-BE90DF34E3E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77427F1-78C3-48BA-9CF9-DCFF5903B0A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98CFAA3-1F7C-4879-B2E0-9447121AA4B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180855-08BB-4CC7-8EA1-685028CB98F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A7ACC37-8B8A-4A0D-89B4-DC578E06D11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A7C536F-35B8-476A-B56B-A8B27723173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B880BD-E4E6-4B65-80AA-BC1212298D6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E835808-7F27-4323-B728-5E8D928A340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04D57A-916E-4390-BB55-F7414937E1B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1773063-5B81-4BB3-B93F-1DB25CDC810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06DDD6-FD87-400D-9C01-7C63677F5B1B}"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6978220-11D1-46AC-B381-0B73FF42ABFA}"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0210A8-AEF8-4355-A92A-3A5DE4733C3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B467EB9-2B47-45A4-BA76-F0809848257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740B8F8-BAA9-481C-ADE0-CB43A1F4A9B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72E2C0-B2BD-49FE-B6A4-5ACEC626F1B0}"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E8188621-C8EE-4F87-A34F-0BA4E00AD118}"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EDD0BD-F829-468E-8BA8-C4C4E849F1DD}"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89114F-B6EC-4B32-A73A-6402A2EBBD86}"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90751B-93B8-4853-9680-871DAD163B9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DDA315-F1D8-44B1-BFF2-F5BAFBE596F1}"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A2D3B2F-E51A-49B9-A97D-2D2DB3363971}"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35D8AB-3928-4A0F-9AB6-1DC83E03A787}"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C09323-9CC0-4132-9AF7-8C3AF56C1B5F}"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E33516-8F80-45EC-9650-B3F8DB7A1993}"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B65E58-C849-4F02-A3E4-AD0CC131B928}"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3EE6A8A2-78C4-444A-82D6-7D505D67C1EB}"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059B3FC-B858-4B6E-848A-2562EBB90AD9}"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FD24DB1-9CE5-4CD5-B0A6-5FD1EC7FE823}"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5E634C-196B-4AF5-A9B4-FC7CB83F36DB}"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2FDFFB-91F5-44DD-A9E5-EBA401A080FC}"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A6C6E56-2D8D-41B3-9461-FE20EA8454A0}"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6CA74B-C209-44A5-B5C9-7932E51034C0}"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8E1957-B45A-4EC8-95C2-E65B95B0DA7D}"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166D452-A525-4EA8-8044-57C7B017BFC9}"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F13841-7F43-403E-A652-2700812B5ED3}"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F153C3-D949-4983-80A4-1585184BAB79}"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36163F22-FB5C-4906-806B-0F20C9C0B0E3}"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33401FB-FF9C-4CDF-B305-AFB99A973DB0}"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F3525F-8FD9-41FF-8C8E-5F1B63C033DE}"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D7818DB-8AF6-48B2-85B5-815DD91962DC}"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8A4FCEC-14C2-4DA9-9033-70B81A801E08}"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91478D7-2DBC-4FE4-84CB-1EC13B39D8AB}"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A0F99D-FBDB-49EC-A07F-A2470BA86EF7}"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3AD589-B399-4C08-999C-64A5CCB73265}"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C69A159-89E0-4C99-95A1-844677F7A247}"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E182ACE-1DDC-4200-B391-8EEBBDE28DAC}"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CF3D9B-5FE5-4D23-BD5D-6ED4DB0C9C07}"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A3E6E7-BB80-41BF-A50B-DB904E83A06F}"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F046042-81DD-4FF7-AAA0-607F559639B2}"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A5A5F5-A943-4025-A67E-4C194D877176}"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4CB8049-62B4-47F1-A86E-5026F4C282D5}"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82A4699-4FEC-480A-9F1E-116080B8C2E8}"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A4FA3A-C454-46E5-B144-D61520E40240}"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8CB7821-9EEC-4B86-9757-83D39CC54EC0}"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0141F6-FD2D-473B-8663-D5ED5E725340}"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192314E-2A68-4401-8B42-5EF79AC0C182}"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5225F7-0028-4443-9218-3723456F290A}"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9C12395-8F3B-4D75-91F9-6DA6D12DE387}"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6C6497-E0BE-45FC-851A-10709E787010}"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B02474-9E6B-462A-B685-110875964E11}"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BEDCA6-38FB-44EB-8D4C-5C613D79B1AE}"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C4CF53-4A15-48DC-98CF-AE6AC2690C44}"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7E869D9-5440-452C-88DD-C6B715A32ED7}"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B25496-F33F-43AF-A829-878112A7E87A}"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D174FB-DD3A-472E-99A2-9BF5FB162677}"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FB125FE-2942-4EB9-BB95-632D4A82EB6B}"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A12B8B-7D94-4E79-A020-9A37F616143A}"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3AD5A09-52F7-4A5D-939C-103B3BF0BB99}"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BF7914-6D1A-4A09-8B75-FA6FBC175622}"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A2DA8DF-B13B-441C-906E-11DB07752399}"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BED764-CAF4-4D1D-9C1D-D70202CD2D20}"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9B2B0D-0994-4D91-B881-B5FC82C57994}"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4BC2901-B25E-48E2-9EF2-2645D9144E39}"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51816F-56DD-4BC8-9F47-D4C8280D7AA5}"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F26E681-6001-4407-BB0F-4162F53BC450}"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E3129B-2722-4D87-9463-F67EEA8A3F01}"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AFF88C-4B02-48CD-A735-03CFE94B00CA}"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15B7646-6DB2-40B6-96EE-AF4B16349BEB}"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C06760-74D5-43C7-86EA-2FF6E6B6E92D}"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ABB09CB-ABEC-4F05-A1AC-0FF44C1C08B7}"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0A6E1D-2F3F-4EFC-A064-99D87411D044}"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00EC8A8-01FE-4144-8B91-603D71BDF7FD}"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